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BB6-FE42-4289-BF73-983A53FF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75EE-2B7C-4475-AF38-4181A337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309F-565E-432E-BE6F-E1BEE004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DC06-A988-4AC7-81FB-CF767D69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2466-624A-40F8-A464-91D09BE7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6B37-5D4D-424F-8138-745D635F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893D-48E0-430F-842C-E22BA133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530E-4D67-4D02-937F-4ABAF2B7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FAD7-32E2-40AC-89BA-59C68373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3232-FB7D-4738-8911-E3D0EC2E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9FA9-BAF7-4D5C-97A6-67159D18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B548-CFCC-4B24-A24B-FE5829BD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3472-4700-46AF-9171-375D8AB8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588A-5840-4C98-8A26-5017369E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7BA8-740A-49EE-B752-B391EAC0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DFBC-BE17-4E92-9C59-5A3AC8E8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85BF-8704-467E-9FEC-0AC98629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08E0-AC53-4532-9601-7600E1D9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EA8F-ED06-4FED-8DEF-9E6B2332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A1EB-EA7D-4469-9FE8-C95838AC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249-D0A8-449D-BD22-5A67907B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A970-3204-49B8-8018-49E44C78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AA92-BABF-4BF3-8FEA-224D9BB1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E5C4-01F5-4B47-9606-E93CAB9A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2F33-F5B6-4EE1-B48B-8E45A0A192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9D4F-4746-49A1-9DBF-358E00DEC9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РГАНИЗАЦИОНА КУЛТУР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ефинисање организационе култур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#1 Деф: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Систем претпоставки, вредности и норми које је једна група развила кроз решавање проблема екстерне адаптације и интерне интеграције и који се као такви преносе новим члановима организациј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#2 Деф: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Претпоставке, вредности, норме понашања и ставови, манифестовани кроз симболе, које су чланови једне организације развили и усвоји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адржај организационе култур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523880" y="1523880"/>
          <a:ext cx="6096240" cy="51912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лемен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тпостав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глед на с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е понаша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н обављања по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ов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ту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ремон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ак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на атмосф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ормална прав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ичаји у организациј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ки објек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на е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б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ви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диц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ећа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т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егдо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х фир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већеност запослен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е и леген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зик - жарг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еолог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ац комуника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н мишљ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“</a:t>
            </a: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Ледени брег” организационе култур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Cloud 7"/>
          <p:cNvSpPr/>
          <p:nvPr/>
        </p:nvSpPr>
        <p:spPr>
          <a:xfrm rot="18895200">
            <a:off x="2274480" y="1847520"/>
            <a:ext cx="4572000" cy="4664160"/>
          </a:xfrm>
          <a:custGeom>
            <a:avLst/>
            <a:gdLst>
              <a:gd name="textAreaLeft" fmla="*/ 630000 w 4572000"/>
              <a:gd name="textAreaRight" fmla="*/ 3616920 w 4572000"/>
              <a:gd name="textAreaTop" fmla="*/ 704160 h 4664160"/>
              <a:gd name="textAreaBottom" fmla="*/ 3743640 h 46641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cc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9"/>
          <p:cNvSpPr/>
          <p:nvPr/>
        </p:nvSpPr>
        <p:spPr>
          <a:xfrm>
            <a:off x="304920" y="28195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431280" y="1752480"/>
            <a:ext cx="137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Видљи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аспек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понаш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425880" y="4572000"/>
            <a:ext cx="15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Невидљи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аспек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понаш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5"/>
          <p:cNvSpPr/>
          <p:nvPr/>
        </p:nvSpPr>
        <p:spPr>
          <a:xfrm>
            <a:off x="3505320" y="175248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Технолог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имб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Регулат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6"/>
          <p:cNvSpPr/>
          <p:nvPr/>
        </p:nvSpPr>
        <p:spPr>
          <a:xfrm>
            <a:off x="2819520" y="32004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тав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Н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ретпостав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Комуникационе мре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Лич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Конфли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ипологија организационе култур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280" y="1566720"/>
          <a:ext cx="8839440" cy="5234040"/>
        </p:xfrm>
        <a:graphic>
          <a:graphicData uri="http://schemas.openxmlformats.org/drawingml/2006/table">
            <a:tbl>
              <a:tblPr/>
              <a:tblGrid>
                <a:gridCol w="1908360"/>
                <a:gridCol w="1733400"/>
                <a:gridCol w="1731960"/>
                <a:gridCol w="1733760"/>
                <a:gridCol w="17319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тура моћ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тура ул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тура зада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тура подрш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едај се газду/ше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жати се прави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и треба да зап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ђуљудски односи су важ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 контр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ректан надз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дардизација проце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дардизација излаза/резулт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дардизација улаза/знањ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дерски сти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ако лидер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министративн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узетнич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тички – фокус на љу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изација и формализац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 центра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а формали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 центра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 формали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а центра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 формали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а центра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а формали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ности за  пословањ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зина реаговањ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узданост, ефикас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лексибилност, иниција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а слоб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сти за пословањ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 зависи од једне особ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гидност, нема иницијатив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ност од љу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суство координац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организације где погоду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е и младе фирме, породични бизн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а предузећа, јавне служб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е специјализоване фирме (консал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ниверзитети, професионална удружењ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Организациона култура и субкултур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убкултура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је систем вредности, веровања и норми панашања које су развили припадници </a:t>
            </a: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једне груп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у организациј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Организацона култура и субкултур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Перспектива интеграције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една организација – једна кул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Перспектива диференцијације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оминантна култура и субкулт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Перспектива фрагментациј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: нема доминантне културе ни стабилних суб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имбол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Симболи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у видљива манифестација организационе култу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Значај симбо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Усмеравање понаш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Омогућавање комуник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Интеграц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Социјализац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Јачање организационе кул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имбол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Семантички симболи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език, жаргон, приче, митови, метаф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Бихејвиористички симболи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итуали и церемон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Материјални симболи: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спољашњи и унутрашњи изглед просторија, логотип, начин облач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03T08:06:56Z</dcterms:modified>
  <cp:revision>180</cp:revision>
  <dc:subject/>
  <dc:title>Soft and Hard Skills Development: A Current Situation in Serbian Companies</dc:title>
</cp:coreProperties>
</file>